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069-21F1-44B4-8226-7ABD474B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755-3D7E-4851-A43F-87224C5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A24-0F6D-4CD9-B6E0-720417A1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412-2F6F-42C7-AD82-49F3164E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72C-C552-4CE8-9B72-0275829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CBF-5045-4D37-88D7-33B2436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824-C849-4D17-884A-18817302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5E3-3576-4319-AA55-21683E7A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1E8-6D88-4771-90D8-6668A0A8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FBA-0471-4C53-A31E-3104E31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696-AAFA-4EA6-935A-A0469397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2B8-1587-4075-BF66-EF29344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85FE-180A-4E48-B10C-9B641A9E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ovosti.rs/vesti/beograd.74.html:501998-Otrovni-gas-u-stanovima" TargetMode="External"/><Relationship Id="rId2" Type="http://schemas.openxmlformats.org/officeDocument/2006/relationships/hyperlink" Target="http://www.novosti.rs/vesti/beograd.74.html:501998-Otrovni-gas-u-stanovima" TargetMode="External"/><Relationship Id="rId3" Type="http://schemas.openxmlformats.org/officeDocument/2006/relationships/hyperlink" Target="http://www.novosti.rs/vesti/beograd.74.html:501998-Otrovni-gas-u-stanovima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v.uk/government/publications/phenol-properties-incident-management-and-toxicology" TargetMode="External"/><Relationship Id="rId2" Type="http://schemas.openxmlformats.org/officeDocument/2006/relationships/hyperlink" Target="https://www.gov.uk/government/publications/phenol-properties-incident-management-and-toxicology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т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бодан Јанко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пституисани фен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ксахлорофен (хлор-фен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золи (метил-фено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ују кау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, изазивају хемолизу,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бубрега и јетре, депресију ЦНС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употреба хексахлорофена код беба доводи до вакуоларне енцефалопа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енол из „смрдљивих зграда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9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енол се користи у производњи експлозива, вештачких ђубрива, боја, разређивача, гуме, пластике, текстила,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начајан број бактеријских врста може да разгради фен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шерихија коли у цревима човека ствара фанол у већој количини, посебно ако се уноси много меса и протеина уоп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псорбује се интензивно преко коже, инхалацијом, о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енол се из организма елиминише коњугацијом у јетри са сумпорном или глукуронском кисел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њугати се затим излучују у бубре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319760" y="5489640"/>
            <a:ext cx="474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trovni gas u stanovima! [Интернет]. [цитирано 14. Јануар 2018.]. Available at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ovosti.rs/vesti/beograd.74.html%3A501998-Otrovni-gas-u-stanovi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7729560" y="996840"/>
            <a:ext cx="1071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колошки значај фен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2226960"/>
            <a:ext cx="78868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Промовише раст тумора, али није канцероге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Нема доказа о мутагености и тератоге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Знаци акутне токсичности: локална иритација ткива до некрозе, таман урин, повраћање и отежано гутање после оралног уноса, знојење, едем плућа, оштећење јетре, колапс, ко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665360" y="5041800"/>
            <a:ext cx="654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bich H, Davis DL. Phenol: a review of environmental and health ris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ul Toxicol Pharmacol. 1981;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(1):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–1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Phenol: health effects, incident management and toxicology - GOV.UK [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тернет]. [цитирано 14. Јануар 2018.]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0" lang="sr-Latn-R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sr-Latn-R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ov.uk/government/publications/phenol-properties-incident-management-and-toxicolo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7778880" y="1131840"/>
            <a:ext cx="10713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ватернерна амонијумова једињ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су деривати амонијум-хло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ују кау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ана је парализа због блокаде ацетилхолинестера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е јављ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тилен-оксид (епокси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 се за стерилизацију материјала у болницама, који је осетљив на топл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ује као алкилир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аге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зл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ост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изазвати леукемију и карцином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уца;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су забе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а когнитивна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а и неуропа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ује локално иритати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утаралдех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је 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ст, која се користи за стерилизацију оп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х инструмената и зубарске оп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вање веома 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 тровање формалдехидом, па се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 исти 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орна киселина 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се добија из боракса (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ристи се као отров за буб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б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о се попије, делује локално над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јно (бол у трбуху, пов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е, пролив – зелено-плав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ј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цијент цео поцрвени, 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 на </a:t>
            </a:r>
            <a:r>
              <a:rPr b="0" lang="en-US" sz="26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уваног рака</a:t>
            </a:r>
            <a:r>
              <a:rPr b="0" lang="en-US" sz="2600" spc="-1" strike="noStrike">
                <a:solidFill>
                  <a:srgbClr val="000000"/>
                </a:solidFill>
                <a:latin typeface="MS Reference Sans Serif"/>
              </a:rPr>
              <a:t>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па је посебно присутна на табанима, длановима и задњици; после 1-2 дана долази до десквама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вљају се конвулзије, делиријум, 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пеција код хро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изл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и угаљ не вреди користити, јер се не везује за борну кисе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одијализа 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бити кори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лор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-хлорат је јако оксидатив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метхемоглобинемију и хемоли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 анем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тубуле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једњак 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удац (бол у трбуху, пов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ства за одбијање моља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т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птици, дезинфицијенси и стерилизан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исепти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упстанца која смањује број 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организама на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или слузо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зинфицијен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упстанца која смањује број микроорганизама на предметима и објек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рилизан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упстанца која у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ва све микроорганизме и њихове споре на предметима и објек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м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мфор 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цик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кетон из групе терп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-борманон, 2-камфон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ро се апсорбује из гастроинтестиналног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се у јетри, а инактивни метаболити се из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ју преко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оралне употребе делује кау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(орофарингеална иритација, м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на, 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, бол у трбух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раст нивоа ензима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и угаљ 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/k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бензодиазеп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фта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цикл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арома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угљоводо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о прах, непријатног мир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ро се апсорбује из дигестивног 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јетри се метабол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 до алфа и бета нафтола, и алфа и бета нафтолохин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болити су јака оксидативн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азивају метхемоглобинемију и хемоли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о се после у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ња јавља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ј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луца и црева (мука, пов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ње, бол), да би се знаци анемије и метхемоглобинемије јавили после 1-2 дана (тахипнеја, тахикардија, бледило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ица, таман урин, цијан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хемоглобин се мери ко-окси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ил-плаво (1-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дихлоробенз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о прах непријатног ми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гастроинтестинални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 (бол у трбуху, мука, пов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а озбиљнијих поре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није потреб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зл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ост код неких особа доводи до: атаксије, 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грануломатозе,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а јетре и ан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 се разликују лоптице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ти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љ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ц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птица од камфора једина плива на води, остале т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оди зас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ој сољу пливају лоптице са нафталином и камфором, а оне са парадихлоробензеном т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овање кауст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им средств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у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средство је супстанца која изазива и хисто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е и функционално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 на месту контакта са тк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су то киселине и базе, али и друге супстанце делују кау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(нпр. фено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елине су донори протона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а базе акцеп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иселине и базе се у ткивима неутр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, ослоб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пл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елине изазивају коагулациону некрозу, јер водоникови јони одузимају воду из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 изазивају коликвациону некрозу (растварање протеина, сапонификација масти, емулзификација мембра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епени о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ња једњ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степен – само хиперемија и е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а степен – улцерације слузо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, које нису циркумферент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б степен – улцерације слузо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, циркумферент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не 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о перфорације,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ње процес зарастања, који траје до 8 недеља, и доводи до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љних с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ак бол усана, уста, груди и трб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де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ела, некад и гркљ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о дис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фагија и одинофа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пацијент има стридор, онда је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 једњака вероватно врло озбиљ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ти који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е имају стриктуре једњака, и 1000 пута 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изик од настанка карцин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ингестије киселина развија се ацид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дгенски прегл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рудног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и абдомена (пнеумоперитонеу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зофагогастроскопија се мора урадити у року од 12h, а никако касније од 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доскопија је контраиндикована од 5. до 14. дана после тровања, јер је тада зид једњака најслаб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м пацијентима дати дексаметазон 1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.в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ци) да се с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ток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убирати пацијента ако 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о отока ларин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.в. надокнада 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рати киселину и базу с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и пацијенту да пије воду, како би се каустик разб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, али само ако пацијент нема болове, свестан је, не 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и не г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азивање 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а је контраиндик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и угаљ не вреди да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неутралисати каус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зтетак су каустици Zn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H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де ипак треба испрат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удац и дати активни угаљ, јер је опасност од системске 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ти цинка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е 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од опасности од перфо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о перфорације, хитна опе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 езофагуса I и IIа степена, пацијент 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а узимањем 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хран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 нема в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тег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 езофагуса IIб степена и III степена пацијента треба хранити преко танке назогаст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о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 стриктура се боримо б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рањем је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а и стављањем сте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 ока каустицима, треба испирати око са неколико литара физио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лорхексид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строинтестинална ир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тко се јавља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јетре и 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равенска примена и инхалација изазивају метхемоглобинемију и хемоли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луороводо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иселина и флуо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луороводо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киселина (HF) се користи за растварање песка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 цигал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F и 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амонијум-флуорид) су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 као и флуороводо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киселина (H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F продире дубоко у ткива преко к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 и слузок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, ослоб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који везује јоне калцијума и магнезијума, довод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 до смрт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то после излагања HF-у симптоми настају са извесном латенц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луороводо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иселина и флуо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ртоносна доза је 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g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ред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су дубоке, са некро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 д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до инхалације, страдају дисајни путеви: упала, улк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ингестије, делује локално корозивно, али се и апсорбује, делу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истем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о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дубље од осталих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луороводо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иселина и флуо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0" y="2057400"/>
            <a:ext cx="6400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ски ефек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магнез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коагулаб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брилациј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елину с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спирати са пуно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вити гел направљен 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м 2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% калцијум-глуконата са 7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ерилног, у води растворљивог лубрик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цијум везује јон флуора, и с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даљу апсорп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повреда, калцијум глуконат се 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т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или интраартеријски (1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% раствора калцијум глуконата у 4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% глук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је 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 до инхалације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раствора калцијум глуконата преко небулиз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д ингестије, испрат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лудац и применити соли калцијума или магнезију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о испирати с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физиол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г раств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.в. применити калцијум глуконат и магнезијум сулфат (2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0% раствора, током 20 минута), према нивоу калцијума 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гнезијума у серу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иперкал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мију л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ти применом бикарбоната, 5% глукозе и инсул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доник пероксид (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ује локално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 се убаци у дубоку рану,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ослободити кисеоник и направити гасну ембол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 се попије, изазива само 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ну и пов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онити гас из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уца назогаст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 сук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та који има гасну емболију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артерије ставити одмах у Тренделенбургов по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ј и хитно послати у хиперба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 ком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Јод и јодоф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Јодофоре су супстанце у којима је јод везан за високомолекуларни нос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је в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растворљивост (нпр. повидо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ле ингестије, јод и јодофоре делују кауст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: бол, пов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е, пролив, хиповолемија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цијенту треба одмах дати раствор скроба или млеко, јер у контакту са њима Ј</a:t>
            </a:r>
            <a:r>
              <a:rPr b="0" lang="sr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релази у мање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јодиде;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ј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луца постаје тамно-љуб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ити активни уга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лијум перманганат (KM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ко оксидацио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 се попије, делује кау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; у контакту са водом распада се на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OH i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Манган диоксид боји ткива црно-бра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бог оксидативног дејства изазива метхемоглобинемију, хемолизу,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јетре и 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е као тров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ба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лор и хлороф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с хлор изазива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препарата хлора оралним путем има кау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дејство 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удац и једњ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алдех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 се налази у водено-алкохолном раствору (37% формалдехида, 12-15% метанол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о се унесе орално, делује кауст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 се апсорбује, прелази у мрављу киселину и изазива т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у ацидо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ити натријум-бикарбонат како би се сузбила ацид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кално л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ти пацијента као код ингестије киселина или ба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ен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лује кауст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 у гастроинтестиналном трак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ЦНС-у делује стимулатив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мптоми и знац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вулзије, летаргија, к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цидоза, метхемоглоб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 у трбуху, 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, перфо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се проспе н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, пребојава је бледо бра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њ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контаминацију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радити са нискомолекуларним полиетилен-гликолом (ПЕТ 300 или 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48:12Z</dcterms:created>
  <dc:creator>user1</dc:creator>
  <dc:description/>
  <dc:language>en-US</dc:language>
  <cp:lastModifiedBy>Windows korisnik</cp:lastModifiedBy>
  <dcterms:modified xsi:type="dcterms:W3CDTF">2018-01-15T20:00:09Z</dcterms:modified>
  <cp:revision>48</cp:revision>
  <dc:subject/>
  <dc:title>Slide 1</dc:title>
</cp:coreProperties>
</file>